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EC37-FCC6-47A3-BA03-D321152D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01A3-DCAE-4B53-A818-1720D9BA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CDFE-B978-4F85-BCF2-D3B8911C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5FCF-270E-49C7-941D-F01597BA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FC03-5861-45F8-B479-68F83727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0159-4BF8-460F-8BDA-845AEA11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0E44-2C57-4066-9671-B004BE03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1A4E-F260-4ADA-955B-015EE9D5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0B70-D550-421E-8A00-B6953B25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51C0-34BA-490C-91E7-B7775AE6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49C7-61F8-45AC-AF3C-8EE1A139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FD3F-C419-45F1-873D-165C0B93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F665-EB25-4505-B6C8-32C54DB7D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 that always has exactly the same fixed, uniform composition (or what it is made of)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TPChart"/>
          <p:cNvGraphicFramePr/>
          <p:nvPr/>
        </p:nvGraphicFramePr>
        <p:xfrm>
          <a:off x="609480" y="1460520"/>
          <a:ext cx="8328240" cy="21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60520"/>
                    <a:ext cx="832824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97160" y="1600200"/>
            <a:ext cx="82296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eterogeneous mi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ure sub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omogenous mi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CorShape1"/>
          <p:cNvSpPr/>
          <p:nvPr/>
        </p:nvSpPr>
        <p:spPr>
          <a:xfrm rot="10800000">
            <a:off x="1224000" y="2155680"/>
            <a:ext cx="216000" cy="2160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liquid to ga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till liquid, just in differen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6002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crumbling piece of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licing tom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observed or measured without changing the composition (made of) of the substances is a physical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609480" y="2133720"/>
          <a:ext cx="8632800" cy="15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8632800" cy="15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2285640"/>
            <a:ext cx="8229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CorShape1"/>
          <p:cNvSpPr/>
          <p:nvPr/>
        </p:nvSpPr>
        <p:spPr>
          <a:xfrm rot="10800000">
            <a:off x="1137960" y="242856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ity of a material to allow heat/electricity to flow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TPChart"/>
          <p:cNvGraphicFramePr/>
          <p:nvPr/>
        </p:nvGraphicFramePr>
        <p:xfrm>
          <a:off x="4114800" y="129528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29528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CorShape1"/>
          <p:cNvSpPr/>
          <p:nvPr/>
        </p:nvSpPr>
        <p:spPr>
          <a:xfrm rot="10800000">
            <a:off x="223560" y="291132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co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lle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atio of the mass of a substance to its volum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TPChart"/>
          <p:cNvGraphicFramePr/>
          <p:nvPr/>
        </p:nvGraphicFramePr>
        <p:xfrm>
          <a:off x="533520" y="1460520"/>
          <a:ext cx="8734320" cy="26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60520"/>
                    <a:ext cx="873432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97160" y="1599840"/>
            <a:ext cx="8229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lle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CorShape1"/>
          <p:cNvSpPr/>
          <p:nvPr/>
        </p:nvSpPr>
        <p:spPr>
          <a:xfrm rot="10800000">
            <a:off x="1163520" y="1742760"/>
            <a:ext cx="29232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are reasons we use physical proper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TPChart"/>
          <p:cNvGraphicFramePr/>
          <p:nvPr/>
        </p:nvGraphicFramePr>
        <p:xfrm>
          <a:off x="609480" y="1473120"/>
          <a:ext cx="8658360" cy="25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73120"/>
                    <a:ext cx="8658360" cy="25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97160" y="1600200"/>
            <a:ext cx="82296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dentify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substances in a mi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CorShape1"/>
          <p:cNvSpPr/>
          <p:nvPr/>
        </p:nvSpPr>
        <p:spPr>
          <a:xfrm rot="10800000">
            <a:off x="1224000" y="3031920"/>
            <a:ext cx="216000" cy="21564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separation of a substance in solution based on boiling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TPChart"/>
          <p:cNvGraphicFramePr/>
          <p:nvPr/>
        </p:nvGraphicFramePr>
        <p:xfrm>
          <a:off x="380988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CorShape1"/>
          <p:cNvSpPr/>
          <p:nvPr/>
        </p:nvSpPr>
        <p:spPr>
          <a:xfrm rot="10800000">
            <a:off x="609480" y="2361960"/>
            <a:ext cx="29232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l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hysical change is when some of the properties of a material change into new and totally different substances, but they look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TPChart"/>
          <p:cNvGraphicFramePr/>
          <p:nvPr/>
        </p:nvGraphicFramePr>
        <p:xfrm>
          <a:off x="685800" y="2362320"/>
          <a:ext cx="8836200" cy="15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2320"/>
                    <a:ext cx="8836200" cy="15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47920" y="2514600"/>
            <a:ext cx="8229600" cy="11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9000"/>
          </a:bodyPr>
          <a:p>
            <a:pPr marL="603360" indent="-60336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CorShape1"/>
          <p:cNvSpPr/>
          <p:nvPr/>
        </p:nvSpPr>
        <p:spPr>
          <a:xfrm rot="10800000">
            <a:off x="1214280" y="3242880"/>
            <a:ext cx="29232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are two categories of pure substan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TPChart"/>
          <p:cNvGraphicFramePr/>
          <p:nvPr/>
        </p:nvGraphicFramePr>
        <p:xfrm>
          <a:off x="533520" y="1473120"/>
          <a:ext cx="8734320" cy="29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73120"/>
                    <a:ext cx="873432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97160" y="1599840"/>
            <a:ext cx="8229600" cy="25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and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and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CorShape1"/>
          <p:cNvSpPr/>
          <p:nvPr/>
        </p:nvSpPr>
        <p:spPr>
          <a:xfrm rot="10800000">
            <a:off x="1193760" y="3268440"/>
            <a:ext cx="254160" cy="253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a correct example of a heterogeneous mix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TPChart"/>
          <p:cNvGraphicFramePr/>
          <p:nvPr/>
        </p:nvGraphicFramePr>
        <p:xfrm>
          <a:off x="762120" y="1460520"/>
          <a:ext cx="8505720" cy="24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60520"/>
                    <a:ext cx="85057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CorShape1"/>
          <p:cNvSpPr/>
          <p:nvPr/>
        </p:nvSpPr>
        <p:spPr>
          <a:xfrm rot="10800000">
            <a:off x="1193760" y="2242800"/>
            <a:ext cx="254160" cy="253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7160" y="1600200"/>
            <a:ext cx="8229600" cy="20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hield fl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in a swimming p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omogenous mixture formed when substances dissolve is a(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TPChart"/>
          <p:cNvGraphicFramePr/>
          <p:nvPr/>
        </p:nvGraphicFramePr>
        <p:xfrm>
          <a:off x="4038480" y="137160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37160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p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sub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CorShape1"/>
          <p:cNvSpPr/>
          <p:nvPr/>
        </p:nvSpPr>
        <p:spPr>
          <a:xfrm rot="10800000">
            <a:off x="512640" y="3031920"/>
            <a:ext cx="216000" cy="21564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negar and oil is an example of a(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609480" y="1447920"/>
          <a:ext cx="9141120" cy="24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91411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97160" y="1600200"/>
            <a:ext cx="8229600" cy="20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e sub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CorShape1"/>
          <p:cNvSpPr/>
          <p:nvPr/>
        </p:nvSpPr>
        <p:spPr>
          <a:xfrm rot="10800000">
            <a:off x="1193760" y="1730160"/>
            <a:ext cx="254160" cy="253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oid contains some particles that are medium in size between the smaller particles in a solution and the larger particles in a susp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TPChart"/>
          <p:cNvGraphicFramePr/>
          <p:nvPr/>
        </p:nvGraphicFramePr>
        <p:xfrm>
          <a:off x="533520" y="2514600"/>
          <a:ext cx="8610480" cy="15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861048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2743200"/>
            <a:ext cx="8229600" cy="116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9000"/>
          </a:bodyPr>
          <a:p>
            <a:pPr marL="603360" indent="-60336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CorShape1"/>
          <p:cNvSpPr/>
          <p:nvPr/>
        </p:nvSpPr>
        <p:spPr>
          <a:xfrm rot="10800000">
            <a:off x="1137960" y="288576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11430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property = characteristics of a material that ca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be observed or measured without changing the composition of the sub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23623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743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cosity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how a liquid flows/resists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3124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oil in c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36576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ivity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bility of a material to allow heat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o flow (electricity as we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44956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leability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bility of a solid to be hammered w/o breaking/shattering (most metals are malle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ness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will 1 material scratch ano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1447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steel knife scratche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wood, but a sharpener manipulates the kn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00200" y="2209680"/>
            <a:ext cx="7010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ting point/boiling point =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emp at which substances change from a solid to a liquid (M.P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P. –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emp at which substance bo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3581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ity –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ratio of the mass of a substance to its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3434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of Physical Prop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8006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e use physical properties 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o I.d. materials, choose materials or separate substances in a mi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properties to separate mix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12193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Filtration –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eparation of materials based on the size of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their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20574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brewing coffee—using coff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27432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Distillation –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eparation of the substances in solution based on boiling p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35812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rocess used to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provide fresh water in submar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3962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zing physical chan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43434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hysical change occurs when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ome of the properties of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a material change, but substances in a material 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stay the same (atoms remain who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8:55:14Z</dcterms:created>
  <dc:creator>Farwell Area Schools</dc:creator>
  <dc:description/>
  <dc:language>en-US</dc:language>
  <cp:lastModifiedBy>User</cp:lastModifiedBy>
  <dcterms:modified xsi:type="dcterms:W3CDTF">2010-10-12T15:16:41Z</dcterms:modified>
  <cp:revision>13</cp:revision>
  <dc:subject/>
  <dc:title>3.2 Physical properties</dc:title>
</cp:coreProperties>
</file>